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4188-5A6B-49DA-9FBA-96D687B5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1358-3F58-47D1-868D-EE893F25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0BBB-9FD7-4DAC-830D-C40664A8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111-6B17-4ECF-B2E7-2592CD0A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5066-FC9E-4686-9480-A0874AF4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4CDB-94B6-4A88-9B77-CF0291CC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AD16-D22C-4A79-BB8A-31ACD3D7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63E0-CE2D-4DD4-952F-8711AC0E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4529-4F89-4199-BC34-8B81E0F1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6D86-0E92-4443-B5DC-44CAE2FC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089D-8206-45FB-B03D-3A3B8631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643-A875-4D84-844E-11A75D38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9444-766E-4A9A-8685-A62565B6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A9A7-C79A-4FAA-BB57-DBB8487A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2D26-FD43-4CAC-8787-BE2F3F3C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85B1-FDC2-4567-BA95-D98BFDED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31DC-9706-4D2D-BB23-849C7772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884B7-3856-4CAF-ADCB-8D9E0348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E52C4-8A90-465D-A9A1-9B6BD743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0664F-33A1-43B8-B9BC-8900F4D2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004912-DB48-45E8-AEF3-B77A9A0E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73CBF-476B-4BD5-AC29-D5AAF1C8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0998-79F0-41A0-BD42-BE989FF1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B2BDFB-E898-415E-9215-5A3A27DC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556AEE-B8CA-496B-9EA9-B27F08B8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FEC16-BE5C-4118-A965-461A3ACD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28F7A-70AF-44BF-93FC-35C6C563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83641-BD1E-46A5-8301-10DF5552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16D50-8CE4-4833-ACBD-FAAA0966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0A815-93AC-4AA6-8413-2F719D6F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95D80-118E-42B8-91B4-BA968037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F7D68-E175-4D53-9D0D-2E5A0C7E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695B6-36EB-4A63-B59A-CFBFAEFC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B79F-725D-4BF1-B4F4-D281F4AA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32B3C-2362-466C-9FD7-5FF71C9C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1F0EC-A4C0-4B18-A820-29E6F87F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965E6-7B40-42D5-A9FB-B2CF9077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6E8B6-CBFE-4C4A-B042-E7414308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6489B-D72B-4A69-BE79-321C4F59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61CD1-52EF-40B0-84FD-B3DB90ED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4D770-E764-406A-8398-ADC79ECA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6AFE8-F82D-4F70-BD12-701B9A7B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F9162-DEFA-4432-B5BE-F93496E0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902F94-D20A-47D5-ACB5-7F565380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FC9-8D26-41C3-90D9-E7E208EF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908838-0902-4213-87EE-0DFE36AA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A55E5B-676A-44F3-A851-9C22157E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D6AE5-0BB3-454C-A66D-55AE962E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78518E-C12A-41CE-8447-CC2056DC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3F6F2-38D7-4CFC-B935-224FFCF8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209DCD-1819-4DBA-8CE1-1AEF0F89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A4A77-746D-47EB-91DF-A566AEB4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6BC331-074F-491C-A1F9-F9C82F2B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3CD3F-D0FD-44F7-93FE-2ABE6551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207726-0E8F-4075-BBEA-D3538C35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B53-BDC9-4183-8492-97027F12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D5447-B40C-4A71-82B9-7C212C9A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9FE8D8-C078-4DF4-969D-41D29483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7C58EC-7CD1-4D40-8A2B-CFA54EF2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926BF-BC2A-4793-8A3E-6EE93198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80A6B-FD74-4941-A804-4BA6726F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592501-2D9F-4DDD-87D5-DAF608AA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A21CB6-A321-472E-8AFE-4F810004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01A9CB-7930-451A-B43B-4EF17484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3CC8F8-A09F-4CA9-A98D-24ABBF5A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E5EB52-2631-46C8-B900-5A6046B2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E58-9FE1-45E2-897E-9D967C23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B44263-93B4-4FD2-A572-A7204B6C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E3A02B-7553-4976-A7B8-ABCE40B8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3C7C56-0D5A-4FDF-8484-5C674FD7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36ED24-2AA2-45CC-8012-7CDDE6C1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006333-C9E3-413D-B984-31A4CD8E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6A6F8A-58FC-4B83-9F63-EBF73FE2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F67265-CAA7-4C82-8549-275EC302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C8C9B1-6468-4B8E-A768-4FB17CA1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90316-A4C3-41F5-BC6B-8E28CCCD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6E5E9-5AE1-4BC3-AE8F-51E725EF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89A-D01D-4853-94BE-29C16F48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8E70F-082C-4D1E-9C48-AE7CD752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600CC6-EDD7-4CFD-A7F4-5A54BC06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F34C7A-3DF1-4ED0-8CFD-DB565548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B1EBC4-7099-45AF-9D8C-664CF07B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61A40-CBAE-49D6-B4F0-B915B8B58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A18-7146-4E22-8A87-9EF1A6BC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5A02-2335-433A-85C7-7E95109AF1C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999E-15F2-4761-9B35-5264970DCB1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7AF2-62E2-4F88-8F3D-B4259677BA6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3ded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3ded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ded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ded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C548-F961-454B-AFAC-E6EE6811BFA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B240-9EC7-4A17-8C53-0CDA624BBA01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DFCC-A65A-4CDD-BE0C-41B078F4FEF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61C5-4459-4B1A-AA42-8BD136F6684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974960" y="360360"/>
            <a:ext cx="6894360" cy="312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3203640" y="2997360"/>
            <a:ext cx="3786120" cy="32954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6156360" y="5950080"/>
            <a:ext cx="2987640" cy="76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Блейхер Жанна Андр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старший воспит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МБДОУ «ЦРР – детский сад №41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ТЕРМИН «ПЛАН» ТРАКТУЕТСЯ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система взаимосвязанных, направленных на достижение единой цели плановых заданий, определяющих порядок, сроки и последовательность осуществления программ, работ или отдельных мероприятий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соб кратко (или полно) зафиксировать целевые ориентиры, познавательные задачи, программное содержание, последовательность организации и проведения образовательной деятельности с деть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О ВИДАМ ПЛАНЫ ДЕЛЯТСЯ </a:t>
            </a:r>
            <a:endParaRPr b="0" lang="en-US" sz="32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100008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Прямоугольник 3"/>
          <p:cNvSpPr/>
          <p:nvPr/>
        </p:nvSpPr>
        <p:spPr>
          <a:xfrm>
            <a:off x="2143080" y="12859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232800" y="135720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спек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2143080" y="26431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2214720" y="4214880"/>
            <a:ext cx="421452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аленд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0"/>
          <p:cNvSpPr/>
          <p:nvPr/>
        </p:nvSpPr>
        <p:spPr>
          <a:xfrm flipV="1">
            <a:off x="1071720" y="785520"/>
            <a:ext cx="0" cy="407196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Прямая со стрелкой 16"/>
          <p:cNvCxnSpPr/>
          <p:nvPr/>
        </p:nvCxnSpPr>
        <p:spPr>
          <a:xfrm>
            <a:off x="1071360" y="1714680"/>
            <a:ext cx="85788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6" name="Прямая со стрелкой 18"/>
          <p:cNvCxnSpPr/>
          <p:nvPr/>
        </p:nvCxnSpPr>
        <p:spPr>
          <a:xfrm>
            <a:off x="1071720" y="2999880"/>
            <a:ext cx="78624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7" name="Прямая со стрелкой 20"/>
          <p:cNvCxnSpPr/>
          <p:nvPr/>
        </p:nvCxnSpPr>
        <p:spPr>
          <a:xfrm>
            <a:off x="1071720" y="4857840"/>
            <a:ext cx="78624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88" name="Прямая соединительная линия 22"/>
          <p:cNvSpPr/>
          <p:nvPr/>
        </p:nvSpPr>
        <p:spPr>
          <a:xfrm flipH="1" flipV="1">
            <a:off x="1071360" y="785880"/>
            <a:ext cx="57132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5"/>
          <p:cNvSpPr/>
          <p:nvPr/>
        </p:nvSpPr>
        <p:spPr>
          <a:xfrm flipH="1">
            <a:off x="7429680" y="785880"/>
            <a:ext cx="1440" cy="407340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8"/>
          <p:cNvSpPr/>
          <p:nvPr/>
        </p:nvSpPr>
        <p:spPr>
          <a:xfrm flipH="1" flipV="1">
            <a:off x="6858000" y="785880"/>
            <a:ext cx="57168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32"/>
          <p:cNvCxnSpPr/>
          <p:nvPr/>
        </p:nvCxnSpPr>
        <p:spPr>
          <a:xfrm flipH="1" flipV="1">
            <a:off x="6714360" y="171432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2" name="Прямая со стрелкой 37"/>
          <p:cNvCxnSpPr/>
          <p:nvPr/>
        </p:nvCxnSpPr>
        <p:spPr>
          <a:xfrm flipH="1" flipV="1">
            <a:off x="6714360" y="2999520"/>
            <a:ext cx="71532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3" name="Прямая со стрелкой 43"/>
          <p:cNvCxnSpPr/>
          <p:nvPr/>
        </p:nvCxnSpPr>
        <p:spPr>
          <a:xfrm flipH="1" flipV="1">
            <a:off x="6714360" y="485748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entury Schoolbook"/>
              </a:rPr>
              <a:t>СЛАБЫЕ СТОРОНЫ ПЕРСПЕКТИВНОГО ПЛАНИРОВАНИЯ</a:t>
            </a: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рспективное планирование, в отсутствии календарного (комплексно – тематического) плана, не раскрывает содержания деятельности, методические приемы, не конкретизирует дидактическое обеспечение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 всегда позволяет равномерно распределить деятельность по ее видам в течение определенного отрезка времен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збежать прецедента дополнительной нагрузки на детей или ее необоснованного отсутств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трудняет осуществление методического контроля над выполнением планируемых мероприят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КОМПЛЕКСНО – ТЕМАТИЧЕСКИЙ ПЛАН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999720"/>
            <a:ext cx="7467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ым содержанием комплексно-тематического пла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собы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зволяющие дошкольнику успешно «ориентироваться в четырех мирах действительности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живой и неживой прир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творном мир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общественных (социальных отношений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собственной внутренней жизнедеятельности» (Концепция дошкольного воспитания)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разработке комплексно – тематического плана педагогом выделяются основные «узловые» темы. Темы занятий «многослойны», т. е. они повторяются с определенным усложнением в каждой возрастной группе. Возвращение к теме в иных педагогических условиях, на другом содержании, возрастном уровне развития помогают ребенку успешно освоить информацию, овладеть новыми способами общения и познания окружающего мира, формирует компетентность как особую «практическую умелость, опыт» при решении несложных жизненных ситуац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 – тематический план может составляться воспитателем при участии специалистов ДОУ, которые на своих занятиях творчески обогащают и дополняют возможности детей, добиваясь при интеграции высоких образовательных эффекто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6840" y="713880"/>
            <a:ext cx="7467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ематического содержания, определение форм работы по его реализации и интеграции осуществляется педагогом на месяц. Основным принципом при подборе содержания являются образовательные области и решение их основных задач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23232"/>
                </a:solidFill>
                <a:latin typeface="Century Schoolbook"/>
              </a:rPr>
              <a:t>СОДЕРЖАНИЕ КАЛЕНДАРНОГО ПЛАНА СТРУКТУРИРУЕТСЯ ПО БЛОКАМ И ПРЕДСТАВЛЯЕТСЯ В ВИДЕ СХЕМЫ.</a:t>
            </a:r>
            <a:endParaRPr b="0" lang="en-US" sz="25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бразовательный бло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(сетка занят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овместной деятельности взрослого и дет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амостоятельной деятельности дете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79297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КАЛЕНДАРНОЕ  ПЛАНИРОВАНИЕ  ВОСПИТАТЕЛЬНО-ОБРАЗОВАТЕЛЬНОЙ РАБОТЫ</a:t>
            </a:r>
            <a:br>
              <a:rPr sz="1200"/>
            </a:b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       НА ПЕРИОД:__________________________________________, ГРУППА:_____________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ТЕМА:__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ЦЕЛЬ: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ИТОГОВОЕ</a:t>
            </a:r>
            <a:r>
              <a:rPr b="0" lang="en-US" sz="1200" spc="-1" strike="noStrike">
                <a:solidFill>
                  <a:srgbClr val="323232"/>
                </a:solidFill>
                <a:latin typeface="Century Schoolbook"/>
              </a:rPr>
              <a:t>     </a:t>
            </a: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МЕРОПРИЯТИЕ:________________________________________________ДАТА:____</a:t>
            </a:r>
            <a:br>
              <a:rPr sz="1200"/>
            </a:br>
            <a:endParaRPr b="0" lang="en-US" sz="1200" spc="-1" strike="noStrike">
              <a:solidFill>
                <a:srgbClr val="323232"/>
              </a:solidFill>
              <a:latin typeface="Century School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57120" y="1928880"/>
          <a:ext cx="8286840" cy="4572000"/>
        </p:xfrm>
        <a:graphic>
          <a:graphicData uri="http://schemas.openxmlformats.org/drawingml/2006/table">
            <a:tbl>
              <a:tblPr/>
              <a:tblGrid>
                <a:gridCol w="689040"/>
                <a:gridCol w="574560"/>
                <a:gridCol w="719280"/>
                <a:gridCol w="1386000"/>
                <a:gridCol w="172800"/>
                <a:gridCol w="1559160"/>
                <a:gridCol w="1460520"/>
                <a:gridCol w="1725480"/>
              </a:tblGrid>
              <a:tr h="37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нед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жи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. обл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местная деятельность детей  с воспита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развивающей среды для самостоятельной детск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аимодей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в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рупп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.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худ.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ення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а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журство по столов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в уголке при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.г.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в центре активности по интерес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беседы по запросам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0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ул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ая бес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ор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природным  и выносным материал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7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казки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лушивание спокойной музы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Г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«Усыплялочки»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акс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овина дня, веч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в постели, ходьба по массажной дорожке, водные процеду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материалов к занятию, атрибутов к инр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ОБРАЗОВАТЕЛЬНАЯ ДЕЯТЕЛЬНОСТЬ В ХОДЕ РЕЖИМНЫХ МОМЕНТОВ 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ланировании образовательного содержания в ходе режимных моментов целесообразно использовать циклограмму, позволяющую педагогу установить «разумный баланс» между видами образовательной деятельности, амплифицировать развитие детей по основным направлениям: физическому, социально-личностному, познавательно-речевому и художественно-эстетическо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40" y="2506680"/>
            <a:ext cx="7215120" cy="4351320"/>
          </a:xfrm>
          <a:prstGeom prst="rect">
            <a:avLst/>
          </a:prstGeom>
          <a:ln w="0">
            <a:noFill/>
          </a:ln>
        </p:spPr>
      </p:pic>
      <p:pic>
        <p:nvPicPr>
          <p:cNvPr id="355" name="Заголовок 1" descr=""/>
          <p:cNvPicPr/>
          <p:nvPr/>
        </p:nvPicPr>
        <p:blipFill>
          <a:blip r:embed="rId2"/>
          <a:stretch/>
        </p:blipFill>
        <p:spPr>
          <a:xfrm>
            <a:off x="55440" y="49320"/>
            <a:ext cx="85219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6840" y="571680"/>
            <a:ext cx="78296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Благодарю 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за внимание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3571920" y="3286080"/>
            <a:ext cx="37861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401760" y="669960"/>
            <a:ext cx="80722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571320"/>
            <a:ext cx="74674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 планирован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еспечение целенаправленного развития образовательных областей образовательной программы, их интеграци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здание базы для осуществления контроля за ОП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оставление информации об организации деятельности возрастной группы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ализацию новых форм взаимодействия с детьми, родителями в структуре планиров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ЛАНИРОВАНИЕ ОТРАЖАЕТ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реализации основной образовательной программ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ецифику и развитие приоритетных направлений деятельности ДО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авливает связи между занятиями, игрой и трудом дете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и результаты реализуемых творческих проек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он РФ «Об образовании» (пункт 6.2 статьи 9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каз министерства образования и науки РФ от 23.11.2009 г. №65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тверждены ФГТ к структуре основной общеобразовательной программы Д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ложения ФГТ являются основ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руктуры планирования образо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 основываться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плексно-тематическом принцип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роения образовательного процесса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предусматривать решение образовательных задач в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вместной деятельности взрослого и детей и самостоятельной деятельности детей не только в рамках НОД, но и при проведении режимных моменто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 предполагать построение образовательного процесса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екватных возрасту формах работы с деть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Примерами построения образовательного процесса по комплексно-тематическому принципу служат вариативные программ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ерная основная общеобразовательная программа дошкольного образования «Успех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т рождения до школ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Золотой ключи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Сообщество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214200"/>
            <a:ext cx="74674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Овал 4"/>
          <p:cNvSpPr/>
          <p:nvPr/>
        </p:nvSpPr>
        <p:spPr>
          <a:xfrm flipV="1" rot="10800000">
            <a:off x="2286000" y="928800"/>
            <a:ext cx="4500720" cy="164304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 принцип построения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5"/>
          <p:cNvSpPr/>
          <p:nvPr/>
        </p:nvSpPr>
        <p:spPr>
          <a:xfrm>
            <a:off x="1357200" y="3071880"/>
            <a:ext cx="128592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6"/>
          <p:cNvSpPr/>
          <p:nvPr/>
        </p:nvSpPr>
        <p:spPr>
          <a:xfrm>
            <a:off x="3857760" y="3500280"/>
            <a:ext cx="135720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6429240" y="3071880"/>
            <a:ext cx="121464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8"/>
          <p:cNvSpPr/>
          <p:nvPr/>
        </p:nvSpPr>
        <p:spPr>
          <a:xfrm>
            <a:off x="3842280" y="2858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10"/>
          <p:cNvCxnSpPr/>
          <p:nvPr/>
        </p:nvCxnSpPr>
        <p:spPr>
          <a:xfrm flipH="1">
            <a:off x="2356560" y="2428560"/>
            <a:ext cx="429480" cy="57204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0" name="Прямая со стрелкой 12"/>
          <p:cNvCxnSpPr/>
          <p:nvPr/>
        </p:nvCxnSpPr>
        <p:spPr>
          <a:xfrm flipH="1">
            <a:off x="4570200" y="2643120"/>
            <a:ext cx="3600" cy="6433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1" name="Прямая со стрелкой 14"/>
          <p:cNvCxnSpPr/>
          <p:nvPr/>
        </p:nvCxnSpPr>
        <p:spPr>
          <a:xfrm>
            <a:off x="6143760" y="2428560"/>
            <a:ext cx="42912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72" name="Овал 15"/>
          <p:cNvSpPr/>
          <p:nvPr/>
        </p:nvSpPr>
        <p:spPr>
          <a:xfrm>
            <a:off x="2500200" y="5143680"/>
            <a:ext cx="421488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интег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17"/>
          <p:cNvCxnSpPr/>
          <p:nvPr/>
        </p:nvCxnSpPr>
        <p:spPr>
          <a:xfrm>
            <a:off x="2000160" y="4000320"/>
            <a:ext cx="1215360" cy="121500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4" name="Прямая со стрелкой 19"/>
          <p:cNvCxnSpPr/>
          <p:nvPr/>
        </p:nvCxnSpPr>
        <p:spPr>
          <a:xfrm flipH="1">
            <a:off x="4570200" y="4501800"/>
            <a:ext cx="360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5" name="Прямая со стрелкой 21"/>
          <p:cNvCxnSpPr/>
          <p:nvPr/>
        </p:nvCxnSpPr>
        <p:spPr>
          <a:xfrm flipH="1">
            <a:off x="5857200" y="4071600"/>
            <a:ext cx="1143720" cy="11437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09:09:02Z</dcterms:created>
  <dc:creator>Лидер</dc:creator>
  <dc:description/>
  <dc:language>en-US</dc:language>
  <cp:lastModifiedBy>USER</cp:lastModifiedBy>
  <dcterms:modified xsi:type="dcterms:W3CDTF">2013-03-30T15:55:16Z</dcterms:modified>
  <cp:revision>46</cp:revision>
  <dc:subject/>
  <dc:title>«Планирование   образовательного процесса с детьми в условиях реализации                       ФГТ»</dc:title>
</cp:coreProperties>
</file>